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228-C78D-4E98-8020-F8F624EA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A43-C0A1-4C5C-AF32-927B34A9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1CD-25F9-4B9C-8468-E6570C94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8C4-51E7-43AD-8715-C8260B09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CFD-1E14-4B01-9579-B4C41D7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51B-E265-419B-AAE4-DA2C799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A19-CBAE-44AA-8ABF-E2B9FE3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B0B-15E3-4CF4-B6CA-AD814DC0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54A-91D5-41BF-8E05-934838F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93D-C6E9-43FD-8000-F009D4C5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DD2-9145-44F6-B8E0-E29492DC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534-D288-4DFF-9891-FC8F6C2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A59-4002-4BAB-B043-37413D00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8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alieron ellos ano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GAR :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area #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3 / 4 / 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o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11-8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dcterms:modified xsi:type="dcterms:W3CDTF">2013-01-07T21:23:29Z</dcterms:modified>
  <cp:revision>1</cp:revision>
  <dc:subject/>
  <dc:title>Me llamo ________ Clase 8im La fecha es el 8 de enero del 2013</dc:title>
</cp:coreProperties>
</file>